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8D92-5BCB-45D5-85E4-16665ECAF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CA06-E5C4-423B-9016-6157BF40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6492-19E1-44D7-B719-1B2D4D5EF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C7ED-8A8D-4D36-8EE2-CE953549B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88FF-7CD4-4C29-A9B3-72B0DB0A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39CB-24DF-434E-8B64-DF3207E0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136D-13C1-49A9-93B2-968E028B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E815-6463-400F-AFCE-C890A851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EECC-2A31-4A28-BC06-8041A11D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36E6-5D64-4456-A1FA-23F8B31B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FD4F-E633-473B-8C8D-D362E830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62FE-E456-4CD1-B5ED-0307A8A6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CD72-BDBD-4805-AB25-05CA8F171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01Z</dcterms:modified>
  <cp:revision>4</cp:revision>
  <dc:subject/>
  <dc:title>Slide 1</dc:title>
</cp:coreProperties>
</file>